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2F9-8F11-42AB-9997-065D754C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9A0-496F-452E-89A4-6B3E0F8D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54E-E1AE-42F1-A941-C23E006D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ACF-8630-4866-A42C-8ADE325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82D-6BC5-4F78-9620-99B8B17E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AA7-352B-4146-82CD-ACC17C44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451D-033B-4545-BBF8-F556493A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930D-3DBA-4324-87F7-46BB647A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1D4-F2C3-46C6-A38A-2F3564D0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5C77-1F35-4210-84D9-D8C22F8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6F4-4A0B-4A8C-9F16-97882824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5466-93A9-4B53-AD6D-7B8ACC2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724E-6F95-4208-964A-3D3B441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440-4EB9-4B78-B668-3C2EDEB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FC3-380A-4811-8C92-0B4B60C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4C78-3E9E-4F95-A5CA-77A10CC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CD82-BFC8-455C-9AAE-1DB46A7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54E-8EA8-4425-91DA-516B6585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A044-DF74-4DBD-A0B3-4254F607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4AC3-D013-48BA-84B2-1B035A83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A694-9EF4-4492-838A-B488473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A97D-04AE-4CA7-81C4-D54BF766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FF42-50E4-4AB7-A0C1-F4253C7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1275-9A0C-407F-8383-BE8EF1E8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41B-3ED2-467F-9F57-1F10FD97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CA45-C5F8-4005-936D-5458675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C4B7-BB39-4A66-A289-D474C5F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7328-62CE-41DE-AD8E-91FDFD9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9F64-8813-4829-86DF-E1C9E25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4E83-CAFB-4F85-B404-A4B7712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5DAD-7021-4E99-891B-A7110D3F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0F3C-D635-4627-96E8-AAB458D5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EDC4-655F-4309-9920-EFDE8D4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14A9-0631-4F6A-A3F4-C947E874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FEBF-34E7-46AC-84BA-230EA31D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C15-0117-4C08-89A9-37835510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C1F9-C457-4C3D-94E6-7D54E00A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45DF-5017-4123-AF00-C6484111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EB73-1102-460D-952C-318D7FE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0FC5-6450-4556-B4D1-0C5852B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2E3A-AF64-410A-97B1-12783D5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CEFF-F0B4-46E9-910A-EF4FA74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53F7-7F61-4F89-8320-82A5BA5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1BC8-A326-4B5E-9C6B-7E170644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DE91-4E9F-4BCA-AB2F-72FD21F6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D4D3-CE6C-43C4-A327-876D2747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5AE-62C3-4F9D-9454-9CA2A21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21FDA-FD79-4C06-8E35-C7DBD36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7625-3CD0-46D7-BBE2-AB8054B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859B-8AAE-4F98-B9AC-3976685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F3C1-57E5-48BD-8630-684AB4C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C023C-3843-47BF-8C56-B336E443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5E53-4D57-4964-BAD7-81B04193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05DE-CD69-49B5-B8EB-1BB42B2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EF7C-DC79-4863-B39A-9C3A85A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4549-9401-4403-BBAD-E9DFD5F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9BC9-D871-4AB4-9639-1F77AF54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CE8-ABD6-48F5-BF3D-781DE6BC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FA62-C58B-4A48-8B2D-471D06D9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0F68-E380-46DD-B6FC-F1A4E0B2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A379-CE7D-4676-9220-FEEC684D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0021-F94C-4BE3-8334-1AB4564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D1E1-8048-4AB1-94DD-0AFD2010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6F4B-94E3-447E-BED8-2E0AC1AF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7517-850E-4E47-9AE1-A8574CB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4D73-52C6-433F-B9F2-20F7550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5073-5980-42AC-AE28-9636C259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44114-4446-41DC-BEB7-C853074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EEA-D958-4CBB-B723-1C0F1B9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53D1-F283-4A1D-9462-E0CBD3E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C49E-6661-4126-A1AF-CB2F83A1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D4FD3-88B0-400F-83B8-D2811950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B78E-B8D8-4703-980E-FD858B5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3F50-9A79-4647-9AA7-C34D315D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18B9-AE33-48CE-8898-13B3163E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24E5-0293-419B-90BD-B48897B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D6852-B683-4BD8-8D99-2EDA940B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062E-B35B-4BF7-A377-C5763C2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9780-DE32-44C0-9F74-54DB568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52B-352A-4D95-80FC-40E0E5F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C437-E02B-4310-89AB-D1A21CD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6A19-27FD-4361-A586-EEF73CE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38228-C77B-47BD-9A5D-F0CE26D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61B7-2C07-4781-A1C8-F968BD9F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05F4-6597-4611-82B7-BF921B64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475-C7C8-422A-A279-972B65A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227-BD9D-4811-A2ED-87BA9DB9C3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B0F-E586-4C15-A5F3-8F97E87C37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1C2-0516-47C6-9E77-B9DC81E9DC4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BA6F-00E2-4920-9B05-F7D59D0967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986-45B6-45D3-9D00-54A15933E1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6F64-6404-4EEB-B85C-7A98270850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A441-9D29-4FBB-900E-F3FBAA5AC0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gen.genetics.utah.edu/photographs/diseases/high/611.gi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  <a:ea typeface="Arial"/>
              </a:rPr>
              <a:t>ХРОМОЗОМСКЕ АБЕРАЦИЈ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0000"/>
                </a:solidFill>
                <a:latin typeface="Arial"/>
              </a:rPr>
              <a:t>АНЕУПЛОИД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9346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 како у полним тако и у телес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ија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33520" y="3276720"/>
            <a:ext cx="411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рсте анеуплоиди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телесним ћелиј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нозомија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ризомија 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зомија (2n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ојна тризомија (2n+1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029200" y="38862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 г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мет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зомиј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лизомиј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плоидије настају услед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раздвај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ромозома у анафази митозе или мејо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остај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ромозома у кретању у анафази митозе или мејо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раздвајањем хромозома настају </a:t>
            </a: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дизомични и нулизомич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аме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2" descr="nerazdvajanje mejoza 5"/>
          <p:cNvPicPr/>
          <p:nvPr/>
        </p:nvPicPr>
        <p:blipFill>
          <a:blip r:embed="rId1"/>
          <a:srcRect l="0" t="0" r="0" b="52712"/>
          <a:stretch/>
        </p:blipFill>
        <p:spPr>
          <a:xfrm>
            <a:off x="304920" y="2514600"/>
            <a:ext cx="3962160" cy="30481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84" name="Picture 3" descr="nerazdvajanje mejoza 5"/>
          <p:cNvPicPr/>
          <p:nvPr/>
        </p:nvPicPr>
        <p:blipFill>
          <a:blip r:embed="rId2"/>
          <a:srcRect l="0" t="49815" r="0" b="0"/>
          <a:stretch/>
        </p:blipFill>
        <p:spPr>
          <a:xfrm>
            <a:off x="4724280" y="2514600"/>
            <a:ext cx="3733920" cy="30481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зроци нераздвајања хромозома у митози могу бит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инс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етич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ff"/>
                </a:solidFill>
                <a:latin typeface="Arial"/>
              </a:rPr>
              <a:t>Средински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рачење, хемијски агенси,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ff"/>
                </a:solidFill>
                <a:latin typeface="Arial"/>
              </a:rPr>
              <a:t>Генетички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утоимуне болести, старост мајке, док СТАРОСТ ОЦА НЕ УТИЧЕ, аберантне ћелијске 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тризомија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XX или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sr-CS" sz="3400" spc="-1" strike="noStrike">
                <a:solidFill>
                  <a:srgbClr val="ff0000"/>
                </a:solidFill>
                <a:latin typeface="Calibri"/>
              </a:rPr>
              <a:t>МИКСОПЛОИДИЈА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400" spc="-1" strike="noStrike">
                <a:solidFill>
                  <a:srgbClr val="ff0000"/>
                </a:solidFill>
                <a:latin typeface="Calibri"/>
              </a:rPr>
              <a:t>МОЗАИЦИЗАМ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ја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две или више линија ћелија у једном организму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пр. 4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7; 45/46..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стаје услед грешке у митози у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постзиготном стадијуму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-бил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нераздвајањем хромати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било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заостајањем  хромоз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у анафаз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же да настане и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после</a:t>
            </a:r>
            <a:r>
              <a:rPr b="0" lang="sr-Latn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мбрионалног развић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последица поремећене митозе у току процеса старења или у неоплазма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спитује се на фибробластима кож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АНЕУПЛОИДИЈЕ </a:t>
            </a:r>
            <a:br>
              <a:rPr sz="3200"/>
            </a:br>
            <a:r>
              <a:rPr b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ПОЛНИХ ХРОМОЗОМА</a:t>
            </a:r>
            <a:r>
              <a:rPr b="0" lang="sr-Latn-CS" sz="3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4382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рнеров синдр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ефелтеров синдр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 Y синдром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ер мушкар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 X синдром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ер ж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Тарнеров синдром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45,X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500 жи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изак раст (120-150 цм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место гонада везивно ткиво-стерилне с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атерица рудиментиса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место млечног жлезданог 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везивно ткив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erigium co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tis lax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и на стопалима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шакама (на р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њу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номалије ср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нтално су нормал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 на Барово тело негатив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линичка слика може настати и услед делеције X хромозома или у случају мозаицизма (45, XО/46,X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ужина живота је нормал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мбри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заврши као спонтан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бачај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13" descr="611.gif (130831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00200"/>
            <a:ext cx="1430280" cy="3048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2332XO2"/>
          <p:cNvPicPr/>
          <p:nvPr/>
        </p:nvPicPr>
        <p:blipFill>
          <a:blip r:embed="rId3"/>
          <a:stretch/>
        </p:blipFill>
        <p:spPr>
          <a:xfrm>
            <a:off x="6019920" y="4876920"/>
            <a:ext cx="2438280" cy="1560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2332XO1"/>
          <p:cNvPicPr/>
          <p:nvPr/>
        </p:nvPicPr>
        <p:blipFill>
          <a:blip r:embed="rId4"/>
          <a:srcRect l="2131" t="0" r="0" b="0"/>
          <a:stretch/>
        </p:blipFill>
        <p:spPr>
          <a:xfrm>
            <a:off x="7315200" y="1676520"/>
            <a:ext cx="160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f6fc6"/>
                </a:solidFill>
                <a:latin typeface="Arial"/>
              </a:rPr>
              <a:t>K</a:t>
            </a:r>
            <a:r>
              <a:rPr b="0" lang="sr-CS" sz="3600" spc="-1" strike="noStrike">
                <a:solidFill>
                  <a:srgbClr val="0f6fc6"/>
                </a:solidFill>
                <a:latin typeface="Arial"/>
              </a:rPr>
              <a:t>ариограм Тарнеровог синдро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3" descr="turners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0655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sr-CS" sz="3600" spc="-1" strike="noStrike">
                <a:solidFill>
                  <a:srgbClr val="0000ff"/>
                </a:solidFill>
                <a:latin typeface="Arial"/>
              </a:rPr>
              <a:t>ОЗАИЦИЗАМ </a:t>
            </a:r>
            <a:r>
              <a:rPr b="0" lang="sr-Latn-CS" sz="36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sr-Latn-CS" sz="3600" spc="-1" strike="noStrike">
                <a:solidFill>
                  <a:srgbClr val="0000ff"/>
                </a:solidFill>
                <a:latin typeface="Arial"/>
              </a:rPr>
              <a:t>XO/46,XX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енотип зависи од процентуалне заступљености нормалне лозе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2% има менструацију и фертилне с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8% има млечне жлезд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ст виши него код особа са 45,X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Клинефелтеров синдром 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47,XX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05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есталос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соког су ра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дужени екстремите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мају крупније зуб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ају атрофију гона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ратак полни у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рилни с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40% и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некомастиј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вољна маскулизованос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тално су ретардира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 на Барово тело позитив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ест је мозаицизам (47,XXY/46,XY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47,XXY/46,X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2" name="Picture 13" descr="klinefelter"/>
          <p:cNvPicPr/>
          <p:nvPr/>
        </p:nvPicPr>
        <p:blipFill>
          <a:blip r:embed="rId1"/>
          <a:stretch/>
        </p:blipFill>
        <p:spPr>
          <a:xfrm>
            <a:off x="4495680" y="1676520"/>
            <a:ext cx="1594080" cy="4205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Fripure_preop"/>
          <p:cNvPicPr/>
          <p:nvPr/>
        </p:nvPicPr>
        <p:blipFill>
          <a:blip r:embed="rId2"/>
          <a:stretch/>
        </p:blipFill>
        <p:spPr>
          <a:xfrm>
            <a:off x="6781680" y="2133720"/>
            <a:ext cx="1482840" cy="1203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img_malfo05"/>
          <p:cNvPicPr/>
          <p:nvPr/>
        </p:nvPicPr>
        <p:blipFill>
          <a:blip r:embed="rId3"/>
          <a:stretch/>
        </p:blipFill>
        <p:spPr>
          <a:xfrm>
            <a:off x="6324480" y="3733920"/>
            <a:ext cx="259236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РСТЕ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РОМОЗОМСКИХ АБЕРАЦИЈ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52280" y="2133360"/>
            <a:ext cx="8839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у броју хромозо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умери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ер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е у структури хромозо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абер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2860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f6fc6"/>
                </a:solidFill>
                <a:latin typeface="Arial"/>
              </a:rPr>
              <a:t>K</a:t>
            </a:r>
            <a:r>
              <a:rPr b="0" lang="sr-CS" sz="3600" spc="-1" strike="noStrike">
                <a:solidFill>
                  <a:srgbClr val="0f6fc6"/>
                </a:solidFill>
                <a:latin typeface="Arial"/>
              </a:rPr>
              <a:t>ариограм Клинефелтеровог синдро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xxy"/>
          <p:cNvPicPr/>
          <p:nvPr/>
        </p:nvPicPr>
        <p:blipFill>
          <a:blip r:embed="rId1"/>
          <a:stretch/>
        </p:blipFill>
        <p:spPr>
          <a:xfrm>
            <a:off x="1752480" y="2133720"/>
            <a:ext cx="6096240" cy="43592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Варијација Клинефелтеровог синдром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49,XXXX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24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енотип у потпуности одговара фенотипу особе са 47,XX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енија 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тална ретардациј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ица је нераздвајања хром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ејози или  митози у постзиготном стадијум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5" descr="49XXXXY"/>
          <p:cNvPicPr/>
          <p:nvPr/>
        </p:nvPicPr>
        <p:blipFill>
          <a:blip r:embed="rId1"/>
          <a:stretch/>
        </p:blipFill>
        <p:spPr>
          <a:xfrm>
            <a:off x="4724280" y="2514600"/>
            <a:ext cx="4114800" cy="33465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Полизомија Х</a:t>
            </a:r>
            <a:br>
              <a:rPr sz="3600"/>
            </a:b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хипер Х синдром -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47,XXX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честалос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ема специфичних симптома и малформ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/3 има блажу менталну ретардациј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енотип варира од нормалних особина до Тарне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исоког су ра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лно развиће нормал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ертилност обично нормал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томство углавном нормал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имарна или секундарна аменореја, рана менопауза, оскудна менстру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рово тело позитив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ест је мозаицизам 47,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46,XX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7" descr="XXXFemale"/>
          <p:cNvPicPr/>
          <p:nvPr/>
        </p:nvPicPr>
        <p:blipFill>
          <a:blip r:embed="rId1"/>
          <a:stretch/>
        </p:blipFill>
        <p:spPr>
          <a:xfrm>
            <a:off x="4495680" y="2590920"/>
            <a:ext cx="4538880" cy="29667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Полизомије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 X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48,XXX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нтални поремећај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сфункција оварију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неке су фертил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49,XXXX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ћа ментална ретард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тају због грешке у неодвајању хромозома током мејозе I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Хипер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синдром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47,XY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220932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честало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00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ушке новор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ад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исоког су ра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0-186 c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рупнији су зуб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поплазија генита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оцијално понашањ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бично су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ментално нормал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епродукција углавном нормал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главном имају нормално потомств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7" name="Picture 7" descr="XYYMale"/>
          <p:cNvPicPr/>
          <p:nvPr/>
        </p:nvPicPr>
        <p:blipFill>
          <a:blip r:embed="rId1"/>
          <a:stretch/>
        </p:blipFill>
        <p:spPr>
          <a:xfrm>
            <a:off x="4724280" y="2666880"/>
            <a:ext cx="3962520" cy="25322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ff"/>
                </a:solidFill>
                <a:latin typeface="Arial"/>
              </a:rPr>
              <a:t>48,XYYY </a:t>
            </a:r>
            <a:r>
              <a:rPr b="0" lang="sr-CS" sz="36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sr-Latn-CS" sz="3600" spc="-1" strike="noStrike">
                <a:solidFill>
                  <a:srgbClr val="0000ff"/>
                </a:solidFill>
                <a:latin typeface="Arial"/>
              </a:rPr>
              <a:t> 49,XYYY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0880" y="2438280"/>
            <a:ext cx="8229600" cy="24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етко се срећу у популациј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исоки с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гресивнији су од претходн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телигенција је смањена у односу на прет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УПЛОИДИЈЕ АУТОЗОМ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аунов синдр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двардсов синдр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атау синдр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Даунов синдром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47,XX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XY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1)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 монголоидна идиот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сталост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7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учесталост утичу године мајке (преко 35 година старо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230, преко 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год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5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5% има просту тризоми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% последица транслок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46,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X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т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f6fc6"/>
                </a:solidFill>
                <a:latin typeface="Arial"/>
              </a:rPr>
              <a:t>Механизам настанка Дауновог синдром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5" name="Picture 5" descr="downf"/>
          <p:cNvPicPr/>
          <p:nvPr/>
        </p:nvPicPr>
        <p:blipFill>
          <a:blip r:embed="rId1"/>
          <a:stretch/>
        </p:blipFill>
        <p:spPr>
          <a:xfrm>
            <a:off x="2057400" y="2590920"/>
            <a:ext cx="45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f6fc6"/>
                </a:solidFill>
                <a:latin typeface="Arial"/>
              </a:rPr>
              <a:t>Фенотип Дауновог синдрома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934640"/>
            <a:ext cx="5410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вална глава са затупастим темено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чни прорези монголоидно поставље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Језик сув, велики и дубоко избразд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сне суве и испуцал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сти кратке и широк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Шака кратка и широка, на длану бразда четири пр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лац и прст до њега на стопалу више размакну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гениталне аномалије ср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н ризик за обољевање од леукемије и превремено старењ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Живе у просеку 16 годи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8" name="Picture 5" descr="happybaby1"/>
          <p:cNvPicPr/>
          <p:nvPr/>
        </p:nvPicPr>
        <p:blipFill>
          <a:blip r:embed="rId1"/>
          <a:stretch/>
        </p:blipFill>
        <p:spPr>
          <a:xfrm>
            <a:off x="6019920" y="228600"/>
            <a:ext cx="2743200" cy="2549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" descr="simian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124080"/>
            <a:ext cx="1373040" cy="1676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fig2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7620120" y="327672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5" descr="fig3"/>
          <p:cNvPicPr/>
          <p:nvPr/>
        </p:nvPicPr>
        <p:blipFill>
          <a:blip r:embed="rId4"/>
          <a:stretch/>
        </p:blipFill>
        <p:spPr>
          <a:xfrm>
            <a:off x="6858000" y="5029200"/>
            <a:ext cx="115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НУМЕРИЧКЕ АБЕР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Полиплоидије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омене у броју комплетних хромозомских гарниту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вишеструко умножавањ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аплоидно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броја хромозо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3n, 4n, 5n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Анеуплоидије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омене у броју појединачних хромозома, било да се ради о њиховом мањку или виш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Arial"/>
              </a:rPr>
              <a:t>K</a:t>
            </a:r>
            <a:r>
              <a:rPr b="0" lang="sr-CS" sz="3600" spc="-1" strike="noStrike">
                <a:solidFill>
                  <a:srgbClr val="0f6fc6"/>
                </a:solidFill>
                <a:latin typeface="Arial"/>
              </a:rPr>
              <a:t>ариограм Дауновог синром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33" name="Picture 18" descr="Down's%20syndrome"/>
          <p:cNvPicPr/>
          <p:nvPr/>
        </p:nvPicPr>
        <p:blipFill>
          <a:blip r:embed="rId1">
            <a:lum bright="12000"/>
          </a:blip>
          <a:srcRect l="0" t="0" r="-2633" b="-2302"/>
          <a:stretch/>
        </p:blipFill>
        <p:spPr>
          <a:xfrm>
            <a:off x="380880" y="1447920"/>
            <a:ext cx="8153640" cy="4952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Едвардсов синдром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7, XX/XY(+18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9810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95% заврши као спонтани побачај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живо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има преов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ј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женски по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есталос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мо 10% прежив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годин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у п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тку хипото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 касније хипертонич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кроцефа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крогн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тоза к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индактилиј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пр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Јако затворена песни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оже бити присутна полидакти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рло често је присутан губитак ви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25" descr="68"/>
          <p:cNvPicPr/>
          <p:nvPr/>
        </p:nvPicPr>
        <p:blipFill>
          <a:blip r:embed="rId1"/>
          <a:stretch/>
        </p:blipFill>
        <p:spPr>
          <a:xfrm>
            <a:off x="4952880" y="1523880"/>
            <a:ext cx="3800520" cy="1791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syndactyly"/>
          <p:cNvPicPr/>
          <p:nvPr/>
        </p:nvPicPr>
        <p:blipFill>
          <a:blip r:embed="rId2"/>
          <a:stretch/>
        </p:blipFill>
        <p:spPr>
          <a:xfrm>
            <a:off x="5791320" y="3581280"/>
            <a:ext cx="2085840" cy="1541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674Tri18-hand"/>
          <p:cNvPicPr/>
          <p:nvPr/>
        </p:nvPicPr>
        <p:blipFill>
          <a:blip r:embed="rId3"/>
          <a:stretch/>
        </p:blipFill>
        <p:spPr>
          <a:xfrm>
            <a:off x="6324480" y="5181480"/>
            <a:ext cx="123696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f6fc6"/>
                </a:solidFill>
                <a:latin typeface="Arial"/>
              </a:rPr>
              <a:t>K</a:t>
            </a:r>
            <a:r>
              <a:rPr b="0" lang="sr-CS" sz="3600" spc="-1" strike="noStrike">
                <a:solidFill>
                  <a:srgbClr val="0f6fc6"/>
                </a:solidFill>
                <a:latin typeface="Arial"/>
              </a:rPr>
              <a:t>ариограм Едвардсовог синдром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0" name="Picture 17" descr="cytog003"/>
          <p:cNvPicPr/>
          <p:nvPr/>
        </p:nvPicPr>
        <p:blipFill>
          <a:blip r:embed="rId1"/>
          <a:stretch/>
        </p:blipFill>
        <p:spPr>
          <a:xfrm>
            <a:off x="685800" y="1828800"/>
            <a:ext cx="7358040" cy="48182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Патау синдром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- 47,X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XY(+1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20570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алос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мо 10% прежив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в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годин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чни прорези анти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олоид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кроцефа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Лобања абнормалног обли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Хипоплазија ли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ши ниско поставље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сцеп усне са расцепом неп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лидакти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3" name="Picture 12" descr="peri009"/>
          <p:cNvPicPr/>
          <p:nvPr/>
        </p:nvPicPr>
        <p:blipFill>
          <a:blip r:embed="rId1"/>
          <a:stretch/>
        </p:blipFill>
        <p:spPr>
          <a:xfrm>
            <a:off x="4572000" y="1600200"/>
            <a:ext cx="1612800" cy="2467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peri008"/>
          <p:cNvPicPr/>
          <p:nvPr/>
        </p:nvPicPr>
        <p:blipFill>
          <a:blip r:embed="rId2"/>
          <a:stretch/>
        </p:blipFill>
        <p:spPr>
          <a:xfrm>
            <a:off x="6324480" y="1981080"/>
            <a:ext cx="2667240" cy="1746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Ethapple"/>
          <p:cNvPicPr/>
          <p:nvPr/>
        </p:nvPicPr>
        <p:blipFill>
          <a:blip r:embed="rId3"/>
          <a:stretch/>
        </p:blipFill>
        <p:spPr>
          <a:xfrm>
            <a:off x="4572000" y="4343400"/>
            <a:ext cx="1596960" cy="2236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5_65"/>
          <p:cNvPicPr/>
          <p:nvPr/>
        </p:nvPicPr>
        <p:blipFill>
          <a:blip r:embed="rId4"/>
          <a:stretch/>
        </p:blipFill>
        <p:spPr>
          <a:xfrm>
            <a:off x="6553080" y="4343400"/>
            <a:ext cx="22640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4617b"/>
                </a:solidFill>
                <a:latin typeface="Arial"/>
              </a:rPr>
              <a:t>K</a:t>
            </a: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ариограм Патау синдром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8" name="Picture 9" descr="GA-10270AKE1"/>
          <p:cNvPicPr/>
          <p:nvPr/>
        </p:nvPicPr>
        <p:blipFill>
          <a:blip r:embed="rId1"/>
          <a:srcRect l="3567" t="3805" r="3664" b="1649"/>
          <a:stretch/>
        </p:blipFill>
        <p:spPr>
          <a:xfrm>
            <a:off x="1066680" y="1676520"/>
            <a:ext cx="6934320" cy="4572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cxnSp>
        <p:nvCxnSpPr>
          <p:cNvPr id="449" name="Straight Arrow Connector 6"/>
          <p:cNvCxnSpPr/>
          <p:nvPr/>
        </p:nvCxnSpPr>
        <p:spPr>
          <a:xfrm>
            <a:off x="304920" y="3733920"/>
            <a:ext cx="915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 u="sng">
                <a:solidFill>
                  <a:srgbClr val="ff0000"/>
                </a:solidFill>
                <a:uFillTx/>
                <a:latin typeface="Arial"/>
              </a:rPr>
              <a:t>ПОЛИПЛОИДИЈ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ff"/>
                </a:solidFill>
                <a:uFillTx/>
                <a:latin typeface="Arial"/>
              </a:rPr>
              <a:t>ТРИПЛОИДИЈ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(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 3 х 23 = 69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мозома)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а може наста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аметогенези родитељ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ј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диплоидни гамети (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с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спермиј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њем са два сперматозоид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+ 2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n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066680" y="15606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статује се у полним и телесним ћел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е су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ff"/>
                </a:solidFill>
                <a:uFillTx/>
                <a:latin typeface="Arial"/>
              </a:rPr>
              <a:t>ТЕТРАПЛОИДИЈЕ</a:t>
            </a:r>
            <a:br>
              <a:rPr sz="2800"/>
            </a:br>
            <a:br>
              <a:rPr sz="2800"/>
            </a:b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92 хромозома)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а настај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335268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зиго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след ендомито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ј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а 3 сперматоз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3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04920" y="609480"/>
            <a:ext cx="830556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полиплоидног (2n) гамета уместо нормалног (n),  услед нераздвајања хромозома у анафази прве мејотичке део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0749"/>
          <p:cNvPicPr/>
          <p:nvPr/>
        </p:nvPicPr>
        <p:blipFill>
          <a:blip r:embed="rId1"/>
          <a:srcRect l="6378" t="16520" r="0" b="0"/>
          <a:stretch/>
        </p:blipFill>
        <p:spPr>
          <a:xfrm>
            <a:off x="1523880" y="1905120"/>
            <a:ext cx="5564160" cy="44956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3581280" y="5562720"/>
            <a:ext cx="1828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Оплођењем диплоидног (2n) гамета хаплоидним (n),  настаје триплоидни (3n) зиг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962520" y="457200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гамет 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143000" y="4495680"/>
            <a:ext cx="12193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ан гамет  (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276720" y="3200400"/>
            <a:ext cx="17524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анафази прве мејотичке део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867280" y="2209680"/>
            <a:ext cx="129564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3276720" y="2057400"/>
            <a:ext cx="12952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 прве мејотичке део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липлоидија је летална код човека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4300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лазимо је у  ћелија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понтаних побачај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ртво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 дец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италних монструм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им ћелиј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93464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ално полиплоид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чов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лазимо у делу ћелија неких тки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лаценти, јетри у току регенерације где настаје ендомитоз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iploidija humanog kariotip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4" name="Picture 8" descr="http://t0.gstatic.com/images?q=tbn:ANd9GcS0aM4pT8EYOILAV3RM0HXREWLTyTIxWcJIvGMNYiUZBnsYPv0aKA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54100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75" name="Rectangle 5"/>
          <p:cNvSpPr/>
          <p:nvPr/>
        </p:nvSpPr>
        <p:spPr>
          <a:xfrm>
            <a:off x="380880" y="228600"/>
            <a:ext cx="1981440" cy="609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Триплоидија (3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Microsoft Office User</cp:lastModifiedBy>
  <dcterms:modified xsi:type="dcterms:W3CDTF">2021-01-25T18:01:24Z</dcterms:modified>
  <cp:revision>174</cp:revision>
  <dc:subject/>
  <dc:title>HROMOZOMSKE ABERACIJE</dc:title>
</cp:coreProperties>
</file>